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2220-0459-47E9-85F5-A5F162B9E988}" type="datetime">
              <a:rPr b="0" lang="fr-FR" sz="1200" spc="-1" strike="noStrike">
                <a:solidFill>
                  <a:srgbClr val="000000"/>
                </a:solidFill>
                <a:latin typeface="Calibri"/>
              </a:rPr>
              <a:t>28/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133E-5E40-46CA-BE0F-C13B8AA257B1}"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55BD-BC9B-4D10-A6E1-E426B845BC3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A4C7-EA8B-4BD1-8B9C-C608617E262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3F01-8F25-492B-B17F-68028BE920F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E271-9608-4187-8D77-C04CD8A38BE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B9AE-8864-4BC8-B40A-C997B50C058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98D3F-1387-4D33-81A2-203C800E66F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DAED4-684E-4468-9C46-0E8D17C243D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BA4E-F53D-4DAC-B266-5D598A1EDDA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EB1C2-2A44-4ADB-A651-0F6A6C181F3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C5774-0C26-434F-9288-D21A5A0A0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7307D-1FE1-4C20-9482-DEF2F4AF2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2F679-B736-4409-93D2-983C49C3B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895E3-31C3-4BFE-9960-02783237A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D4478-EF27-4965-B5FF-8A43EF3DD3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E2889-4F0F-40BA-827C-937146CA1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54C3F-4A88-4C4B-85F2-E7C5E7629C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E7F2C-29B9-4ED2-A8AA-4D57A405B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56AD9-FFD8-4D86-8A33-4397BAE0E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093E0-6B78-4959-BB8A-C4DFA679E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3D0B7-ED09-4AF5-992F-B0B5DAC22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78D0B-3DD2-4EA1-987A-E5F53069A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413CD-0C01-4FBC-BFCB-72F73C721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B9CE3-BE0F-4C5E-95FA-B6E4DA0BB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95573-519E-4BCF-9F35-D84CE7008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643A9-9D59-406C-BDB7-C0E404284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C7469-6E3B-46D3-B548-205C17A6E8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03642C-F054-47FF-B47B-6F16864B5E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F4DC82-862E-4CF6-BF2B-64B6026AF0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2C5E4C-5F27-45B6-AD8B-1E6489C5B6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F2498F-07CA-4857-A227-1833E4D4B6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C50AC6-262A-4B5E-8BD9-7C5C70DAD1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A95C6-A886-426D-A6DA-A57A5FD43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F70349-5B58-4FA9-8C1B-37B396879D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CAAAD-4067-49A3-A4DC-49392EB7FC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9B69A2-9B4F-4A52-9A70-F5184A459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E4CA3-1368-486A-81A1-BA1407B481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37A83A-BB03-4497-8D1F-0450C561D3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A95C38-2E21-4FA8-A9C9-D0B998EFFF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31C117-2252-424B-8165-10A87E29D0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EEBA3B-CE73-4855-9DCA-73E3710943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3A6BDA-A8D5-4457-AF9B-3533C6F367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FB0A33-5A81-4BE8-8C49-482AC1F9D5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72CE1-364B-4669-8C4E-1E1DB0717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7B7682-1E7F-41EA-A797-61C325BDD5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A1E1F7-B19D-43F9-9D71-EAC9D06F78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C40EC4-C4A9-4659-826B-B2BDE4C197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2BCFE8-B7F4-4B2A-B073-F06E1CFE6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5B4705-4BD7-4623-8D68-BE9C70298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FDC04-2C9B-4E55-9FEE-58E009BED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3F21DB-2A20-48D9-86A7-CC51733727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5EC9EF-39D8-4359-A286-D0F0DEA081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5EBA31-1CB5-473C-8E08-9A0C5EDF9C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0AF1BF-1CF2-46BD-AF2A-5699682747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5CB50-847D-4D4E-9BB0-5686116DB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8EB36E-3EF4-49B8-8366-2B58FB8874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610D70-DB3B-4475-87C0-7B45822A26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9CFE5C-9495-4EC3-B67C-F83299774A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E71B7F-2726-46EC-9C57-F0D89D5E1E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2B68EB-41C7-4F7C-8191-B202FB9CDA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323C9E-989B-428A-A5F5-8440489FA4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B2D304-F4E6-4EC4-B912-9A4BBB095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CD5207-D484-438D-8752-5A86CA80E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CB797F-FDAF-4C61-80F0-7B9A8D3204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9A3B4E-3AFC-4D0B-A5BA-B99AA7AB67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B6985-32A4-47A5-B920-D6AA12969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EF9D8B-74C5-4B36-BF92-DB6DA556AA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34B5F0-0BCB-4929-AD6C-D87F85724C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03E93F-C59A-47A6-87D3-51225619E7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4F809F-F12A-4426-8C3C-0AC0D8AA20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BACFD9-795A-434D-9100-A6BE2BEB35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FCCAED-3860-4081-B50B-FAD3765B3B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828B13-CA38-453F-8CD1-C4A0CDB0EB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F00819-06A3-4FE8-8493-D28BD32BEE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D4BDFD-987B-405E-985E-C0613181D9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C95B20-B248-431C-92AA-311364E87C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B6B7B-620A-40B6-87EC-97E506609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1592C8-FA15-4F2B-90CC-5B9B79106E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63E31E-8A47-45CC-9A5C-D5788378FE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F8C47E-E6DF-4289-8F15-EB19FEA67E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470F19-F3B7-41EF-A159-69160D62E7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10133B-6DA6-4781-9428-377920D9E5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5A3A2B-E78E-450E-9C92-EFB0D98806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5D5D67-F965-4BB8-AAED-917FB07395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D8BB25-05F4-43B9-8082-6BF434C4DF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92D525-5A1D-4437-8E22-91BCE81D6A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33A5FC-A5D9-4BBE-93A2-A735D514A5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7D39A-4DF9-422C-9F6D-03BB6B7F3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AB6639-1B79-4FB8-8FA4-E1BD861E53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5C0AD-3C91-4A2E-A527-A7D235580E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442FF7-EE19-421D-A3AF-955F220388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7FEE12-932B-4F67-BF97-07C2F9894E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8D906F-01C9-4CB5-A706-F85219A5A8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0F20C2-CCA2-49FA-B0BB-7C2EFC4F13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19E179-D58C-4054-BE23-D673F41DBE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1500EF-C724-4BAE-AFB2-06B56D6582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31DA8F-0CF2-489B-A754-8D5F1AD7A5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D757C7-D652-41BB-8906-7533B41CD0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F3F54-C1D6-4486-B8E3-398DCFB7A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9193D0-611D-4B02-87B1-F37A662D53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709DD1-E723-49B6-BF91-5BA48B2D2C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A96858-7D67-490F-8F03-78A3FC6C84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DFE60D-FC7D-45DF-BD1B-81EFB69401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1027BE-014A-40AA-BD3E-6D4E5DB82A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2B001B-9374-4825-AA17-07A8109A6C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3F0BE2-B8C3-4651-8F3B-AD5048D3E27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E0F2-A16E-4E28-9966-4DD88BB587DC}"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33EE-52A2-4C5A-9C64-71F762DFF94F}"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9C12-D0D4-49A4-B960-3C63824B346B}"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2A4BC-941D-4F17-9787-A02ECEBA0531}"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4979A-5AB5-4E5B-A459-0215AA103A90}"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598B-D5C4-424D-AE9F-7264E81E0301}"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F4FD-0C99-493C-ADDA-B94C6AEE7533}"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52C6-1B34-4DB9-8DED-05BC993830FB}"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4C55-2F5A-4548-BC10-2BF63A456924}"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305F-42D5-413B-8640-F1C43B88F403}"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E651-2615-49BF-B1DF-A74BA981B898}"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0FB8-77DC-4054-80AD-63BDDA8BED5A}"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E204-9E85-49C1-A565-839BBF92AFC1}"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B1C2-98B5-45B1-A997-C67224AABD1F}"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3FE8E-F8FD-4790-BF10-B1AD9C438AE5}"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B7D4-1ADF-4F11-8982-309A9FD0748C}"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63C1-3573-4132-921A-86E6E489EFEE}"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63B9-BB3F-4E87-8399-AE09B9E77281}"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D142-09D2-43F3-9B04-44CE640D60E4}"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9830-C4BE-41E7-8C1F-53E3AA783BB6}"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581D-03E3-474B-8237-AF54FB96D9B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B645-48B2-475D-B599-1D459964959F}"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EFF4-8949-4754-8854-AB669DF839E3}"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FC86-4FD3-4241-A71E-A8DD25DDDD33}"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E4BC-F2E8-43B2-8847-EDD35158BF13}"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D9E47-598D-44A0-A5E2-8A4E3724711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